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61B-1B2C-412D-AA51-719917DE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544-CD8B-4983-8417-85DC858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63B7-6ED7-4C21-B90F-77783F47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141C5-9E66-4693-9429-884CEA7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A0F38-030D-4FA6-8C53-86C0D5C6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3DDE-E083-4962-8222-72D9C54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04D44-AA8F-4F3B-ACDC-A6D8A54A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09904-96DF-4D08-9CAD-F7D4051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9E19C-99AC-4F1E-901D-85FD1B8B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20C19-3ED1-4730-9A82-A8FEC70E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BBDCA-02DF-4C70-9D3A-F51E89C9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DB6-51AA-4582-8822-0FB7EFCA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9D8-E42D-456D-A414-FC04BE8D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648-B56D-4291-9366-FE2AF9D6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C1A-F011-4684-93EA-7B78279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95F-6DA7-499A-8039-7C6B878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7B5-BBCB-4915-AA9A-EBAD5ED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503-72CF-4329-8EF2-38E4EEF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4417-8400-4A74-AAB2-391BB1D1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8ED-0B90-4BCE-A0C4-BCCE85E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89F-34FF-4CBB-AAEA-C99EDA75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C209-47D1-49CF-8AA0-E2BB24B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6723-04E1-4D3D-9C55-78B2881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0969-B183-47A0-B4FA-F981ED2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CFD-D533-4715-829E-986E2730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C0D-0E80-4177-A5AB-8B6CB5E9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6C1E-EA97-4DC6-9D3D-5D8EDC38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BD4D-06A8-4A3E-B683-EC49EA4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D87B-D6B1-496A-9E64-ECE03FAC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EB3A-5AB4-4F68-8252-51F2C778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2282-700B-4B77-8234-AF65954C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3DD-E222-491F-B2C5-02EB059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E352-9C0E-44ED-84C7-E961CEE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2778-235F-4934-B2D0-6F3BCA4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96EB-8EBE-4B01-A6D2-B93D6CA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1ADC-4859-4517-9000-38CF9D1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D7ED-1776-4FDB-BFD8-BB085FA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6524-D345-48BF-9AC2-4531D72F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0D77-8B8F-45B6-8537-4B568C60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D2E7-C783-4342-A082-E8556D8E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973B-3D16-4C72-9371-E236BF0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665C-D7D8-4A58-B510-8744815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511-7B59-44D2-9294-8E559CA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BD64-FE3D-4293-8122-EBF43624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2AF9-06FF-4317-A9B4-93478BC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F912-58D6-46BD-9B13-F4E0D28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99F1-DA93-4F00-B06D-E50E701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D13B-7E99-4A27-A0A1-CFF64269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05A8-4E95-448F-8599-D7A69E7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3A4F-39D7-4C5B-8E98-D7CF0571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3E8E-5C0D-4962-AE52-4FCB7554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0301-2764-46E1-97EA-E6D9E76D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B9DC-A641-4109-9EE8-B87FB1CE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ADA-CA82-427C-955E-ED35104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07F11-BCDF-4E7B-A13B-7A2FCB45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53C1-2011-46F2-B54D-7D6099E7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766B8-13F6-4085-BFC3-848282E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2716-0350-48C7-87A4-A3F7396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9A548-CA35-4615-815D-B589EC0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4A4F-3F85-4493-A0B9-8E80BD6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9456-50FD-4CFC-879D-DAE93FAE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2F79-A441-48AB-9947-C08B70B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5FE4-EB38-48C2-B2D1-534B4D82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31E8-E798-4C55-9A03-0336B936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1BD-4C9F-4A5E-91AA-F112157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535D-94D1-457A-A6A7-9E85F8B3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E935-02F6-4EE7-980C-0FFC1C4D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B7B49-B464-4E9C-B4F8-C83E52C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73C0-BA5B-420F-8AFE-20AB087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F8D0-2F71-4CBE-9434-EC64CFF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9D82-BBED-4546-9528-B7A32DC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EC70-C4DF-4E76-BB2B-158F017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C926-27BA-4130-B035-6D83498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8A34-05AA-48E2-B7A5-9C7C4DA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7545-B8AB-431A-87C2-554229B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0E0-64DA-4700-A50D-3590534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FD0E-631A-4998-BBFC-6CE31F9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545E-09F4-4E04-B36D-EA77AE73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3D16-B45A-4861-B075-F454F5DB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CA2E-6ADB-46D9-B129-F357CFE0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0BB2F-CFD1-4C2D-99FA-BE3A38A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D372-9925-44CF-89C1-CAB13D9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6E17-CCB6-48BE-9F05-CB2671F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6FEB-DAE7-48AB-B057-987C8D2C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03858-D920-40A9-A936-AED723F5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8D2A5-BDFD-45E1-8079-A0D939D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9D9-0FB6-4347-B568-130BDFB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1B136-8386-4716-941C-A1BFD63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DE17B-0A48-4226-9743-46FDD68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5FB37-72F2-4EC7-8658-E86A001F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7D08-CFB8-4AD0-B147-1CEAF92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BA40-BBDB-4DE0-BAA9-E1C2C46D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7B64-293C-49BE-8D35-5B27AE47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3AEDD-B794-4552-A1E4-0C8F52F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BE60E-07FA-4F5C-B457-08D9E58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84BB-3B89-4A4E-AEF7-BB91B84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9FFC5-513C-4F1D-8832-9C2271E6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D84-C0AB-4CCB-8431-30AE7AD9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DFEC-C430-4440-9894-AD8029EB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9995-4B02-4797-843F-FB72BE6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1F4F-A94C-4FB1-8527-73F1685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1611-1121-4EEE-94EB-97F63B2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4543-E0C1-4049-9801-A9E4DED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697E-99FB-45C9-A372-2B760D2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38C8-24EA-469C-B420-4EAFF15E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F343A-EC37-4E8D-8532-7DA51719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9156D-586E-4426-9433-6AF676A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E450A-464B-4509-95ED-D2CD2FB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BDE2-7D33-4CC2-A662-ECB8D18AB2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105-CB3F-45E2-8C36-F898272CC1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AC0-A7D1-4A9D-81BB-C62476B234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17CC-F15E-406E-B0E9-42387975AC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C4C-68E3-4BD1-94F0-D111F7A932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813-AE37-408E-B922-9014790B22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F9F-78BD-4BF7-BB60-4BC432B3E5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9D62-3964-4ADA-82B0-7B4006F0C7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5A10-7E55-4760-AB56-02F50CB268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76640"/>
            <a:ext cx="845820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omic Sans MS"/>
              </a:rPr>
              <a:t>ОТКРЫТЫЙ КЛАССНЫЙ ЧАС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549360"/>
            <a:ext cx="367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mic Sans MS"/>
              </a:rPr>
              <a:t>ЗА СЛУЖБУ И ХРАБР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Picture background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311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Picture background"/>
          <p:cNvPicPr/>
          <p:nvPr/>
        </p:nvPicPr>
        <p:blipFill>
          <a:blip r:embed="rId2"/>
          <a:stretch/>
        </p:blipFill>
        <p:spPr>
          <a:xfrm>
            <a:off x="0" y="1916280"/>
            <a:ext cx="4130640" cy="309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Picture background"/>
          <p:cNvPicPr/>
          <p:nvPr/>
        </p:nvPicPr>
        <p:blipFill>
          <a:blip r:embed="rId3"/>
          <a:stretch/>
        </p:blipFill>
        <p:spPr>
          <a:xfrm>
            <a:off x="5148360" y="3429000"/>
            <a:ext cx="2709720" cy="23763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7"/>
          <p:cNvSpPr/>
          <p:nvPr/>
        </p:nvSpPr>
        <p:spPr>
          <a:xfrm>
            <a:off x="250920" y="5084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Офицерский» орден Святого великомученика Георгия Победонос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148360" y="5950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Солдатский» Георгиевский 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7740720" y="1557000"/>
            <a:ext cx="946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Picture background"/>
          <p:cNvPicPr/>
          <p:nvPr/>
        </p:nvPicPr>
        <p:blipFill>
          <a:blip r:embed="rId2"/>
          <a:stretch/>
        </p:blipFill>
        <p:spPr>
          <a:xfrm>
            <a:off x="324000" y="836640"/>
            <a:ext cx="8569080" cy="590544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6732720" y="1628280"/>
            <a:ext cx="1954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https://avatars.mds.yandex.net/get-entity_search/68218/96474658/S600xU_2x"/>
          <p:cNvPicPr/>
          <p:nvPr/>
        </p:nvPicPr>
        <p:blipFill>
          <a:blip r:embed="rId2"/>
          <a:stretch/>
        </p:blipFill>
        <p:spPr>
          <a:xfrm>
            <a:off x="312840" y="981000"/>
            <a:ext cx="864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5363640" y="1554120"/>
            <a:ext cx="362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́ДВИГ - самоотверженный поступок, важное по своему значению действие, совершаемое в трудных условия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София\Downloads\VidOthwWh7s.jpg"/>
          <p:cNvPicPr/>
          <p:nvPr/>
        </p:nvPicPr>
        <p:blipFill>
          <a:blip r:embed="rId1"/>
          <a:stretch/>
        </p:blipFill>
        <p:spPr>
          <a:xfrm>
            <a:off x="250920" y="1197000"/>
            <a:ext cx="4825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C:\Users\София\Downloads\scale_1200.png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5363640" y="333000"/>
            <a:ext cx="3627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Franklin Gothic Book"/>
              </a:rPr>
              <a:t>Гер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Franklin Gothic Book"/>
              </a:rPr>
              <a:t>Герой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Franklin Gothic Book"/>
              </a:rPr>
              <a:t>Герой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Franklin Gothic Book"/>
              </a:rPr>
              <a:t>Герой…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C:\Users\София\Downloads\a564d0be9dba57945c48667d60107052.jpg"/>
          <p:cNvPicPr/>
          <p:nvPr/>
        </p:nvPicPr>
        <p:blipFill>
          <a:blip r:embed="rId1"/>
          <a:stretch/>
        </p:blipFill>
        <p:spPr>
          <a:xfrm>
            <a:off x="395280" y="476280"/>
            <a:ext cx="48243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642920" y="188640"/>
            <a:ext cx="424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Franklin Gothic Book"/>
              </a:rPr>
              <a:t>Звания и награды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Franklin Gothic Book"/>
              </a:rPr>
              <a:t>Александры Николаевны Пахмутов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Герой Социалистического Труда (1990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Герой Труда РФ (2024), Заслуженный деятель искусств РСФСР (1971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Народная артистка СССР (1984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кавалер ордена Трудового Красного Знамени (1967, 1971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ордена Ленина (1979, 1990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ордена Дружбы народов (1986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орденов "За заслуги перед Отечеством" I, II и III степеней (2009, 1999, 2014)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Franklin Gothic Book"/>
              </a:rPr>
              <a:t>ордена Андрея Первозванного (2019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C:\Users\София\Downloads\192593827_0_0_1328_2000_600x0_80_0_1_0d9679739e9295a5da03aeb7d8978ec7.jpg"/>
          <p:cNvPicPr/>
          <p:nvPr/>
        </p:nvPicPr>
        <p:blipFill>
          <a:blip r:embed="rId1"/>
          <a:stretch/>
        </p:blipFill>
        <p:spPr>
          <a:xfrm>
            <a:off x="324000" y="333360"/>
            <a:ext cx="409572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451640" y="1554120"/>
            <a:ext cx="15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8T12:55:10Z</dcterms:created>
  <dc:creator>София</dc:creator>
  <dc:description/>
  <dc:language>en-US</dc:language>
  <cp:lastModifiedBy>София</cp:lastModifiedBy>
  <dcterms:modified xsi:type="dcterms:W3CDTF">2024-12-11T15:55:45Z</dcterms:modified>
  <cp:revision>26</cp:revision>
  <dc:subject/>
  <dc:title>ЗА СЛУЖБУ И ХРАБРОСТЬ</dc:title>
</cp:coreProperties>
</file>